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8ABA-64D5-40F6-8889-0C5834404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CB6F-835A-407B-940C-4A9E0367D4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ee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B0E-10F4-44AE-A889-64BF7530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F73-1660-4057-9161-B3ED0DE2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E60-CEDB-4D0E-9D74-917CA4AA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64A-7EB1-4B21-9666-3FC53939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E615-F479-4D1D-8BC0-83667017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05E0-6388-4E16-8FE5-BB5FB759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BFFE-F281-43EA-B86D-52035C3B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AF53-AF04-40D2-8EBF-039CC46E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A338-7FE7-48A9-A575-B1078F39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F028-D088-4DB2-B042-22EE771F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69CA-FB4E-4284-9F9A-11F86E73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096-0D1C-45FC-B23D-580F7930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23FF-0BC5-448B-B464-7278644D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80D8-5FBE-444A-BDC5-E8116B88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AF90-9432-4F78-A046-46DB63CA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F926-C5C1-42B5-B038-C358C428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6569-C28B-4FF3-91D7-759704A8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B0DB-0DC2-48DD-B240-003AC564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8CF-82B8-4058-AB4C-54872055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9A3-62F4-4126-855A-6C52B907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42E-8A43-4399-BD3C-A867DF88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1D4-F5FE-44EB-8F8F-313B2E65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78A-C454-40AE-B5F0-80B8D206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F3B-22F6-4F1D-B603-405767B5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2424-03A4-4C18-87EA-BE2233B25D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920A-3C06-4440-9BE5-008EE9019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MART OBJECTIV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thy Kids Learn Be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itu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hie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able is linked to measurable. Usually, there's no point in starting a job you know you can't finish, or one where you can't tell if/when you've finishe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I decide if it's achievab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you know it's measur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thers have done it successfully (before you, or somewhere el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it's theoretically possible (ie clearly not 'not achievable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you have the necessary resources, or at least a realistic chance of getting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you've assessed the limi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hiev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a reasonable amount of effort and application can the objective be achiev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hievable/Agree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y June 1, 2007 the HKLB Institute participants will have established a local school health advisory council that meets at least every other month during the school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listic/Releva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y June 1, 2007 the HKLB Institute participants will have established a local school health advisory council that meets at least every other month during the school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means two things; that the goal or target being set is something they can actually impact upon or change and secondly it is also important to the success of the pro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Telling teachers that they 'have to increase the school tax levy before the next school year' is not actually something they can do anything about - it's not relevant to them. However, asking them to reduce their expenditure on classroom materials by $20 over the next three months is entirely relevant to th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o whether it's relevant to what the school is trying to achieve, the budget manager has to decide this by considering the wider picture.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lis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he people with whom the objective is set make an impact on the situation? Do they have the necessary knowledge, authority and skills?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f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know your objective is specific enough i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n observable action is linked to a number, rate, percentage or 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veryone who's involved knows that it includes them specifi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everyone involved can understand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your objective is free from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you've defined all your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you've used only appropriate langu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</a:t>
            </a:r>
            <a:br>
              <a:rPr sz="3200"/>
            </a:b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going to do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how </a:t>
            </a:r>
            <a:br>
              <a:rPr sz="3200"/>
            </a:b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mu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of wh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wh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By June 1, 2007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ff99"/>
                </a:solidFill>
                <a:latin typeface="Arial"/>
              </a:rPr>
              <a:t>the HKLB Institute participants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will have </a:t>
            </a:r>
            <a:r>
              <a:rPr b="1" i="1" lang="en-US" sz="3200" spc="-1" strike="noStrike">
                <a:solidFill>
                  <a:srgbClr val="86d1ec"/>
                </a:solidFill>
                <a:latin typeface="Arial"/>
              </a:rPr>
              <a:t>established a local school health advisory council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6699"/>
                </a:solidFill>
                <a:latin typeface="Arial"/>
              </a:rPr>
              <a:t>that meets at least every other month during the school year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</a:t>
            </a:r>
            <a:br>
              <a:rPr sz="3200"/>
            </a:b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going to do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how </a:t>
            </a:r>
            <a:br>
              <a:rPr sz="3200"/>
            </a:b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mu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of wh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wh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eptember 2007, all health educators in our district will have participated in a district-wide mapping and alignment worksh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January 2008, all health educators in our district will have completed an update to our k-12 health curriculum scope and seq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</a:t>
            </a:r>
            <a:br>
              <a:rPr sz="3200"/>
            </a:b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going to do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how </a:t>
            </a:r>
            <a:br>
              <a:rPr sz="3200"/>
            </a:b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mu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of wh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wh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tember 200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 health educators in our distri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will have participated 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a district-wide mapping and alignment worksh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nuary, 200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99"/>
                </a:solidFill>
                <a:latin typeface="Arial"/>
              </a:rPr>
              <a:t>health educators in our distri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ll </a:t>
            </a:r>
            <a:r>
              <a:rPr b="0" lang="en-US" sz="3200" spc="-1" strike="noStrike">
                <a:solidFill>
                  <a:srgbClr val="ff6699"/>
                </a:solidFill>
                <a:latin typeface="Arial"/>
              </a:rPr>
              <a:t>have complet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update to our k-12 health curriculum scope and sequ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 SMART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bjective is derived from a goal, has the same intention as a goal, but it is more specific, quantifiable and verifiable than the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fic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re a description of a precise or specific behavior/outcome which is linked to a rate, number, percentage or frequency? 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ba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objective somewhere there has to be a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ay/Month/Year) for when the task has to be started (if it's ongoing) and/or completed (if it's short term or project related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y: No date = No g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 b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y June 1, 2007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the HKLB Institute participants will have established a local school health advisory council that meets at least every other month during the school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457200" y="2895480"/>
          <a:ext cx="6324480" cy="348948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  <a:gridCol w="1371600"/>
                <a:gridCol w="1447560"/>
                <a:gridCol w="16002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781680" y="2895480"/>
          <a:ext cx="1905120" cy="3322800"/>
        </p:xfrm>
        <a:graphic>
          <a:graphicData uri="http://schemas.openxmlformats.org/drawingml/2006/table">
            <a:tbl>
              <a:tblPr/>
              <a:tblGrid>
                <a:gridCol w="457200"/>
                <a:gridCol w="14479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u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xie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 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e Star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ust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57200" y="1397160"/>
          <a:ext cx="8229600" cy="70164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  <a:gridCol w="1447560"/>
                <a:gridCol w="1371600"/>
                <a:gridCol w="1600200"/>
                <a:gridCol w="457200"/>
                <a:gridCol w="144792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en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Pl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384"/>
          <p:cNvSpPr/>
          <p:nvPr/>
        </p:nvSpPr>
        <p:spPr>
          <a:xfrm>
            <a:off x="533520" y="6462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’s Needed for Change to Occu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85"/>
          <p:cNvSpPr/>
          <p:nvPr/>
        </p:nvSpPr>
        <p:spPr>
          <a:xfrm>
            <a:off x="441360" y="2246400"/>
            <a:ext cx="63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Happens when Pieces are Miss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 SMART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RT stands for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cific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urab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evable/Agreeab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listic/Relevan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 SMART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try to use that order M-A/R-S-T is often the best way to write objecti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iting SMART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able is the most important conside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know that you've achieved your objective, because here is the evid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 your object of interest measure up to your standard of accep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the phone quic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ne calls will be answered in three r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something measurable to assess progress towards the objective? 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y June 1, 2007 the HKLB Institute participants will have established a local school health advisory council that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ets at least every other month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uring the school year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hiev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eople feel that Agreed should stand for the definition of A in SMART. objectives should indeed be agreed upon between involved participants rather than enforced.  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0:24:30Z</dcterms:created>
  <dc:creator>Gary English</dc:creator>
  <dc:description/>
  <dc:language>en-US</dc:language>
  <cp:lastModifiedBy>Adam Marcus</cp:lastModifiedBy>
  <dcterms:modified xsi:type="dcterms:W3CDTF">2011-03-12T04:26:13Z</dcterms:modified>
  <cp:revision>10</cp:revision>
  <dc:subject/>
  <dc:title>SMART OBJECTIVES</dc:title>
</cp:coreProperties>
</file>